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0C9-DD51-4103-9EC0-34B577A9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B6A-C472-44C6-A948-647D5BB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96A-CED6-4E7C-894B-F6C7392F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55A-EE4B-4793-994B-437FAAF9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9026-9F04-4C7C-BF26-81544AA7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C0BE-2E94-4E05-AB6E-85EC856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A5FC-EF08-4451-97A7-9D035858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7BF6-406C-483F-BA90-D744D0A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A5A-5B8B-46BA-A2DC-17F195E2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5BD4-68BB-4487-8373-1786017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168D-28A2-4673-910A-049CC30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25E-B16F-4CF8-8443-70EB61F1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529F-CE77-4594-BB3D-02362083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0FD-BF05-4699-875A-12946A68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32EC-FB0B-4631-9DB4-C5765931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1FAE-01AC-4971-8D67-42B8CE4D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39C8-BEEB-4CC8-BF0E-8B481A4F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D2A-8974-4570-99AE-9B36E21C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172-5B01-4C70-865E-59E0A34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393-492A-434A-A38F-8EA8C731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754-375D-4771-ACA9-643EF902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DD2-EB04-44F0-9584-A9CD061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859-9B74-477F-852B-BF8FE01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F40-1DF3-4276-BE45-2EAC8A4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3E1-A3CE-4B5E-85F8-170A2640F6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4e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4ec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5696-5B88-4B08-B032-DEABEDF54E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4e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George Pullman and the Pullman Strike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Phil and Eric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Background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Born in Brocton, New York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Dropped out of school at age fourteen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Joined family business as cabinet maker at age seventeen.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Worked as building mover through early adult life.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96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Accomplishments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Was systematically able to move buildings while business was being held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Was a train car pioneer and a pioneer for searching for utopian society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Left with his fathers business, he turned it into a multi-million dollar train car corporation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36360"/>
            <a:ext cx="83311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Pullman City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George Pullman designed an entire city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Outside of Chicago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Hailed as the first modern city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No taverns, pubs,bars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Pullman Strike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Wages were cut by thirty percent.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Rent stayed the leaving workers with very little money to pay for basic needs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Porters were lowest paid, harassed, and expected to pay for business equipment.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Strike went from May 12th to July 31st, 1894.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Infamy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Pullman passed on October 19th, 1897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His reputation was poor because of the strike and the consequent presidential investigation.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Refused to negotiate with Union and created hardships.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37:43Z</dcterms:created>
  <dc:creator>Yarmouth Schools</dc:creator>
  <dc:description/>
  <dc:language>en-US</dc:language>
  <cp:lastModifiedBy>YHS Teacher</cp:lastModifiedBy>
  <dcterms:modified xsi:type="dcterms:W3CDTF">2009-03-23T14:21:21Z</dcterms:modified>
  <cp:revision>5</cp:revision>
  <dc:subject/>
  <dc:title>George Pullman and the Pullman Strike</dc:title>
</cp:coreProperties>
</file>